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731F-F8B2-43B7-9068-7926EA30A7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666F-D617-4412-BF56-7FEC0432FF12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B144-ED0C-4D57-82DC-8E3848288D43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EDF7-68FC-457F-A488-74EB6598EB98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02FE-1626-4BC0-B6D5-23111E6DED01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124B-BDDC-4A49-B2B3-30AFF7EC26A2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2551-96D9-44A5-87A2-5A288F8F0E08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BFED-2E38-4084-875A-6222A57E3258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E0B2-961B-4AB4-A321-F0BB17D0D0CB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F524-564C-4F24-A8E9-8B648A1218F6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91DC-E477-4C8E-ADB1-5C0D38ECD53B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A186-306F-49DC-A4D1-C094D5B77C9E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lectio factors that get you to attend one hosp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59E2-59F6-44EC-8CF8-0422961362DB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69C6-CE38-4605-8043-6F08E1576BC3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6B2C-D920-4F6C-A170-2B3D38F8136C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7109-AB02-4BEA-8271-9F76D7F058DA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E695-5125-47AF-B469-12068720942A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B7E4-9577-4FD5-B565-735EC12FCE67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1541-7940-4F8F-A52C-042E5B7AECE4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E298-FF96-4466-BD08-8077245F265F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C874-1F94-4694-B36C-124BF6E58EE0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31C1-012E-4DC3-B59A-FFBA22BFFF2E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E8BA-A3CB-4063-9401-E1838157A223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9246-A26D-4662-828E-7C1AF3DF3951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714A-1676-4502-AFAD-51F73ECF9E2E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E59F-FB1D-4106-840D-E06F8D53DC9A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BBC6-950E-4147-A923-281E15886A83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FC7F-E6F1-446A-8AAF-B944FB20A324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A3DD-E3EE-4CDB-8D09-CA2C70ECA11A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C780-A6C9-490F-A39A-AE318E5A7445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9210-765B-4C1F-89AD-BC7BE11B719A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9DBC-D945-4A1F-A34A-3A9E815B7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C897-EDAB-40BF-8F57-5C7E2CDF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E974-A3B9-445D-994C-7EB217166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3600-E860-4BED-9A4A-4EC88436E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48C2-C582-451D-8762-871B4BE51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F3AD-0D42-4514-83F8-02247268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9827-F755-42A5-B7E2-E27AB0C3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88F3-7ADF-4CE4-8BF5-155A4698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1F28-4519-4BA9-90DB-82B8EF10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C3A3-746D-43B2-9E5B-17BE2990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DAC1-248D-4AAB-A809-8A84149F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70C4-2996-41EC-9EF8-AA95A4BE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4A37-AB2D-4291-8807-9A74C9F2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FA0C-EE21-47B9-AB76-1B6365E2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B9C8D-62A6-4063-9C6F-DFBAF0CD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FCAED-7EC4-4044-A72F-7AEFA7002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DE57-51C7-4BA1-A6CB-1BE0B26A2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7225-CC7B-4D5D-874A-C5ADCE9E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63AD-3EA9-4AA3-9715-3B4FB126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B5DA-7C71-4672-85FD-1B8858ED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A925-0151-4ED2-B93A-EFE9F22B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BF26-640C-4F10-9A74-E036FC3E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6627-AA2C-4D55-B760-81A5B5E0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5CC0-A6C0-4EAA-98AB-4744F17B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027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028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59B6-6D58-43EE-B1D7-3B68A4BC327C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1027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028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3A3A-2DAC-4A58-A651-E0AB127D32F5}" type="slidenum">
              <a:rPr b="0" lang="en-GB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ase-control studi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Dr Luis E Cuevas – LSTM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Julia Critchle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6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2"/>
          <p:cNvSpPr/>
          <p:nvPr/>
        </p:nvSpPr>
        <p:spPr>
          <a:xfrm>
            <a:off x="2057400" y="3581280"/>
            <a:ext cx="5791320" cy="5335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xposure to risk factor/s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0" name="Picture 18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0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219320" y="1752480"/>
            <a:ext cx="7315200" cy="4267440"/>
          </a:xfrm>
          <a:prstGeom prst="rect">
            <a:avLst/>
          </a:prstGeom>
          <a:noFill/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6" name="Picture 5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1"/>
          <p:cNvSpPr/>
          <p:nvPr/>
        </p:nvSpPr>
        <p:spPr>
          <a:xfrm>
            <a:off x="2057400" y="3581280"/>
            <a:ext cx="5791320" cy="5335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s exposure higher/lower in cases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1981080" y="2057400"/>
            <a:ext cx="1524240" cy="609480"/>
          </a:xfrm>
          <a:prstGeom prst="rect">
            <a:avLst/>
          </a:prstGeom>
          <a:solidFill>
            <a:srgbClr val="ff66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1" name="Picture 14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12440" y="965160"/>
            <a:ext cx="631188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When are these studies most useful?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8680" y="2398680"/>
            <a:ext cx="8208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imited information on risk factors (some times carried out before cohort studie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idence of the disease is low (rare disease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tudy many risk factors simultaneousl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17160" y="112680"/>
            <a:ext cx="86374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"/>
              </a:rPr>
              <a:t>Major problem with case-control studies is bias</a:t>
            </a: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Selection bia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differences in people who select themselves for studies compared with those who do no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Measurement bia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individual measurements of disease or exposure are more likely to be incorrec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Recall bias in case-control stud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How might you reduce these biases in practice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Suggestions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762120" y="685800"/>
            <a:ext cx="3352680" cy="7621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7315200" y="3048120"/>
            <a:ext cx="213372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238880" y="1523880"/>
            <a:ext cx="2210040" cy="19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685800" y="4419720"/>
            <a:ext cx="84582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are the factors that put a person at a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igher risk of suffering from CHD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0" y="1828800"/>
            <a:ext cx="9144000" cy="129528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0" y="3581280"/>
            <a:ext cx="9144000" cy="129564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Physical activity and risk of coronary heart 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7238880" y="2819520"/>
            <a:ext cx="1905120" cy="129528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7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4191120" y="1828800"/>
            <a:ext cx="3809880" cy="9144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dividuals with CH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4038480" y="4191120"/>
            <a:ext cx="3962520" cy="9144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dividuals without CH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600200" y="19051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676520" y="42670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31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011480" cy="50691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7"/>
          <p:cNvSpPr/>
          <p:nvPr/>
        </p:nvSpPr>
        <p:spPr>
          <a:xfrm>
            <a:off x="760680" y="533520"/>
            <a:ext cx="266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se defini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5257800" y="2057400"/>
            <a:ext cx="358128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c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Hospit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health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entr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opul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ngle poin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eriod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iagno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New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l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Text Box 22"/>
          <p:cNvSpPr/>
          <p:nvPr/>
        </p:nvSpPr>
        <p:spPr>
          <a:xfrm>
            <a:off x="5332320" y="609480"/>
            <a:ext cx="29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urce/s of ca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Rectangle 25"/>
          <p:cNvSpPr/>
          <p:nvPr/>
        </p:nvSpPr>
        <p:spPr>
          <a:xfrm>
            <a:off x="0" y="1143000"/>
            <a:ext cx="9144000" cy="38088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Rectangle 28"/>
          <p:cNvSpPr/>
          <p:nvPr/>
        </p:nvSpPr>
        <p:spPr>
          <a:xfrm>
            <a:off x="5029200" y="5334120"/>
            <a:ext cx="304920" cy="68580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Rectangle 29"/>
          <p:cNvSpPr/>
          <p:nvPr/>
        </p:nvSpPr>
        <p:spPr>
          <a:xfrm>
            <a:off x="179280" y="4005360"/>
            <a:ext cx="4176720" cy="1439640"/>
          </a:xfrm>
          <a:prstGeom prst="rect">
            <a:avLst/>
          </a:prstGeom>
          <a:noFill/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Rectangle 30"/>
          <p:cNvSpPr/>
          <p:nvPr/>
        </p:nvSpPr>
        <p:spPr>
          <a:xfrm>
            <a:off x="179280" y="2205000"/>
            <a:ext cx="4191120" cy="1655640"/>
          </a:xfrm>
          <a:prstGeom prst="rect">
            <a:avLst/>
          </a:prstGeom>
          <a:noFill/>
          <a:ln w="572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trol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fficult and critical issu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dividuals who would have been selected as cases if they had the disease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ame popul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mparability to cases essential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urces of control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4476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ospit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eneral popul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pecial group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riends, neighbors, relativ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 ideal control group   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Analytical (Observational) Epidemio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ohort Studi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ase-control studi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im to identify potential associations between ‘risk’ factors and a particular disease or outcom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3"/>
          <p:cNvSpPr/>
          <p:nvPr/>
        </p:nvSpPr>
        <p:spPr>
          <a:xfrm>
            <a:off x="971640" y="476280"/>
            <a:ext cx="33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urces of contro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6475680" y="1905120"/>
            <a:ext cx="22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spital 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6553080" y="2631960"/>
            <a:ext cx="2133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limitations of the control group should be taken into account when interpreting finding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762120" y="1676520"/>
            <a:ext cx="5715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762120" y="1981080"/>
            <a:ext cx="1143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8" name="Picture 9" descr=""/>
          <p:cNvPicPr/>
          <p:nvPr/>
        </p:nvPicPr>
        <p:blipFill>
          <a:blip r:embed="rId1"/>
          <a:stretch/>
        </p:blipFill>
        <p:spPr>
          <a:xfrm>
            <a:off x="517680" y="1557360"/>
            <a:ext cx="4005000" cy="417672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8"/>
          <p:cNvSpPr/>
          <p:nvPr/>
        </p:nvSpPr>
        <p:spPr>
          <a:xfrm>
            <a:off x="539640" y="2492280"/>
            <a:ext cx="3961080" cy="936720"/>
          </a:xfrm>
          <a:prstGeom prst="rect">
            <a:avLst/>
          </a:prstGeom>
          <a:noFill/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imitations of control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Hospit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ll by defini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&gt; smoker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&gt; alcoho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elativ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Genetic similarit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ocio-economic condition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Geographical situa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Willing to collaborat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xiet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Not always availabl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1332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eighbour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waiting to return from wor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milarit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hare environmen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General popula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generally unavailabl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Unreliable (recall bias?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uncooperativ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3"/>
          <p:cNvSpPr/>
          <p:nvPr/>
        </p:nvSpPr>
        <p:spPr>
          <a:xfrm>
            <a:off x="1143000" y="762120"/>
            <a:ext cx="626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List potential risk factor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4" name="Picture 12" descr=""/>
          <p:cNvPicPr/>
          <p:nvPr/>
        </p:nvPicPr>
        <p:blipFill>
          <a:blip r:embed="rId1"/>
          <a:stretch/>
        </p:blipFill>
        <p:spPr>
          <a:xfrm>
            <a:off x="457200" y="2168640"/>
            <a:ext cx="4137120" cy="39970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3"/>
          <p:cNvSpPr/>
          <p:nvPr/>
        </p:nvSpPr>
        <p:spPr>
          <a:xfrm>
            <a:off x="395280" y="2997360"/>
            <a:ext cx="4248000" cy="2303280"/>
          </a:xfrm>
          <a:prstGeom prst="rect">
            <a:avLst/>
          </a:prstGeom>
          <a:noFill/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61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Recap – confounding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207" name="Group 11"/>
          <p:cNvGrpSpPr/>
          <p:nvPr/>
        </p:nvGrpSpPr>
        <p:grpSpPr>
          <a:xfrm>
            <a:off x="838080" y="2971800"/>
            <a:ext cx="7562880" cy="3886200"/>
            <a:chOff x="838080" y="2971800"/>
            <a:chExt cx="7562880" cy="3886200"/>
          </a:xfrm>
        </p:grpSpPr>
        <p:sp>
          <p:nvSpPr>
            <p:cNvPr id="208" name="Oval 3"/>
            <p:cNvSpPr/>
            <p:nvPr/>
          </p:nvSpPr>
          <p:spPr>
            <a:xfrm>
              <a:off x="1066680" y="5257800"/>
              <a:ext cx="1828800" cy="16002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cc"/>
                  </a:solidFill>
                  <a:latin typeface="Tahoma"/>
                </a:rPr>
                <a:t>smoking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" name="Oval 4"/>
            <p:cNvSpPr/>
            <p:nvPr/>
          </p:nvSpPr>
          <p:spPr>
            <a:xfrm>
              <a:off x="838080" y="2971800"/>
              <a:ext cx="1828800" cy="16002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6699"/>
                  </a:solidFill>
                  <a:latin typeface="Tahoma"/>
                </a:rPr>
                <a:t>Physical 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6699"/>
                  </a:solidFill>
                  <a:latin typeface="Tahoma"/>
                </a:rPr>
                <a:t>activity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Rectangle 5"/>
            <p:cNvSpPr/>
            <p:nvPr/>
          </p:nvSpPr>
          <p:spPr>
            <a:xfrm>
              <a:off x="6248520" y="3353040"/>
              <a:ext cx="2152440" cy="703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cc00"/>
                  </a:solidFill>
                  <a:latin typeface="Arial"/>
                </a:rPr>
                <a:t>mortality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3124080" y="3429000"/>
              <a:ext cx="2667240" cy="685800"/>
            </a:xfrm>
            <a:prstGeom prst="pie">
              <a:avLst/>
            </a:prstGeom>
            <a:solidFill>
              <a:srgbClr val="ff00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" name="AutoShape 7"/>
            <p:cNvSpPr/>
            <p:nvPr/>
          </p:nvSpPr>
          <p:spPr>
            <a:xfrm rot="20229600">
              <a:off x="3352680" y="4495680"/>
              <a:ext cx="2667240" cy="685800"/>
            </a:xfrm>
            <a:prstGeom prst="pie">
              <a:avLst/>
            </a:prstGeom>
            <a:solidFill>
              <a:srgbClr val="ff00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AutoShape 8"/>
            <p:cNvSpPr/>
            <p:nvPr/>
          </p:nvSpPr>
          <p:spPr>
            <a:xfrm>
              <a:off x="1600200" y="4648320"/>
              <a:ext cx="457200" cy="45720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f00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Rectangle 9"/>
          <p:cNvSpPr/>
          <p:nvPr/>
        </p:nvSpPr>
        <p:spPr>
          <a:xfrm>
            <a:off x="4802040" y="5029200"/>
            <a:ext cx="32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confoundin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Rectangle 10"/>
          <p:cNvSpPr/>
          <p:nvPr/>
        </p:nvSpPr>
        <p:spPr>
          <a:xfrm>
            <a:off x="457200" y="129528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A variable is a confounder if it is associated with the outcome of interest (death) and independently with the risk factor of interest.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We are interested in the relationship between physical activity and CHD.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Infant death. Smoking is also associated with CHD, and smoking and physical activity are associated with each other. Smoking is therefore a confound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of the relationship between physical activity and CHD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3"/>
          <p:cNvSpPr/>
          <p:nvPr/>
        </p:nvSpPr>
        <p:spPr>
          <a:xfrm>
            <a:off x="1054800" y="609480"/>
            <a:ext cx="24544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Confounding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acto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1600200" y="2209680"/>
            <a:ext cx="31240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69696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Restri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69696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atch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69696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ff"/>
                </a:solidFill>
                <a:latin typeface="Tahoma"/>
              </a:rPr>
              <a:t>Stratified analy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69696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ff"/>
                </a:solidFill>
                <a:latin typeface="Tahoma"/>
              </a:rPr>
              <a:t>Multiple regress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0" name="Picture 4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0"/>
          <p:cNvSpPr/>
          <p:nvPr/>
        </p:nvSpPr>
        <p:spPr>
          <a:xfrm>
            <a:off x="317520" y="720000"/>
            <a:ext cx="863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atching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AutoShape 11"/>
          <p:cNvSpPr/>
          <p:nvPr/>
        </p:nvSpPr>
        <p:spPr>
          <a:xfrm>
            <a:off x="4343400" y="365760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AutoShape 12"/>
          <p:cNvSpPr/>
          <p:nvPr/>
        </p:nvSpPr>
        <p:spPr>
          <a:xfrm>
            <a:off x="5867280" y="365760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AutoShape 13"/>
          <p:cNvSpPr/>
          <p:nvPr/>
        </p:nvSpPr>
        <p:spPr>
          <a:xfrm>
            <a:off x="7543800" y="365760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o avoid confoundi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ge and sex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re difficult to analy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ossible to ‘overmatch’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Assessing Causalit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Statistically significant Odds Ratios show that there are associations between the risk factor (physical activity) and the disease (CHD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They don’t prove this relationship is caus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240" y="120240"/>
            <a:ext cx="863748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Criteria for assessing causality</a:t>
            </a: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400"/>
            </a:b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(Bradford Hill)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Exposure before onset of disea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Strength of associ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Independence from confoundi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Consistent in different populations with different levels of exposu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Consistent with different studies in different setting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Dose-response relationship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Biologically plausib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Evidence from animal stud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Removal of exposure reduces risk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"/>
              </a:rPr>
              <a:t>Strength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Good for study of rare diseas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Long latent period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Can look at multiple risk factors for a single disea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Quicker and cheaper than cohort stud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1" name="Picture 5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7"/>
          <p:cNvSpPr/>
          <p:nvPr/>
        </p:nvSpPr>
        <p:spPr>
          <a:xfrm>
            <a:off x="1984680" y="304920"/>
            <a:ext cx="456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cc"/>
                </a:solidFill>
                <a:latin typeface="Times New Roman"/>
              </a:rPr>
              <a:t>Case-control studi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imitations - summa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efficient for the evaluation of rare exposur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lection bi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asurement bi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call bi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ifficult to interpre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oes not provide incidence rat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oes not provide ‘causation’, only associatio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Picture 5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1"/>
          <p:cNvSpPr/>
          <p:nvPr/>
        </p:nvSpPr>
        <p:spPr>
          <a:xfrm>
            <a:off x="1598040" y="2743200"/>
            <a:ext cx="219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ith the 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udi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1294200" y="5486400"/>
            <a:ext cx="267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Withou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the 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udi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Differences between cohort studies and case-contro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ohorts – start with exposu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ase-controls – start with disea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Rectangle 1028"/>
          <p:cNvSpPr/>
          <p:nvPr/>
        </p:nvSpPr>
        <p:spPr>
          <a:xfrm>
            <a:off x="914400" y="2895480"/>
            <a:ext cx="1676520" cy="7621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EXPOS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Line 1029"/>
          <p:cNvSpPr/>
          <p:nvPr/>
        </p:nvSpPr>
        <p:spPr>
          <a:xfrm>
            <a:off x="2514600" y="3276720"/>
            <a:ext cx="35053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Rectangle 1030"/>
          <p:cNvSpPr/>
          <p:nvPr/>
        </p:nvSpPr>
        <p:spPr>
          <a:xfrm>
            <a:off x="6172200" y="2895480"/>
            <a:ext cx="1371600" cy="7621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Rectangle 1031"/>
          <p:cNvSpPr/>
          <p:nvPr/>
        </p:nvSpPr>
        <p:spPr>
          <a:xfrm>
            <a:off x="1066680" y="5029200"/>
            <a:ext cx="1371600" cy="7621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Rectangle 1033"/>
          <p:cNvSpPr/>
          <p:nvPr/>
        </p:nvSpPr>
        <p:spPr>
          <a:xfrm>
            <a:off x="6172200" y="5029200"/>
            <a:ext cx="1676520" cy="7621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EXPOS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Line 1034"/>
          <p:cNvSpPr/>
          <p:nvPr/>
        </p:nvSpPr>
        <p:spPr>
          <a:xfrm>
            <a:off x="2590920" y="5486400"/>
            <a:ext cx="350496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tart by defining a CAS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47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nical definition may be insufficien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ist of criteria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producibility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ertainty of diagnosi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roven, very likely, possibl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rity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ild, Moderate, Sever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USUALLY INCIDENT CASES (newly diagnos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027"/>
          <p:cNvSpPr/>
          <p:nvPr/>
        </p:nvSpPr>
        <p:spPr>
          <a:xfrm>
            <a:off x="1295280" y="2057400"/>
            <a:ext cx="221004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How man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Rectangle 1028"/>
          <p:cNvSpPr/>
          <p:nvPr/>
        </p:nvSpPr>
        <p:spPr>
          <a:xfrm>
            <a:off x="1295280" y="4876920"/>
            <a:ext cx="243864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00"/>
                </a:solidFill>
                <a:latin typeface="Times New Roman"/>
              </a:rPr>
              <a:t>How many controls?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Picture 1029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30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34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38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39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40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7160" y="842760"/>
            <a:ext cx="768348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How many cases and controls?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ased on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vailability of cases and contro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ist the main risk facto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view the prevalence of the risk factor in the contro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hat would be the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xpected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revalence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of the risk factor in cas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pi-Info -  ask a statisticia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xpected differen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762120" y="2286000"/>
          <a:ext cx="4797360" cy="25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86000"/>
                    <a:ext cx="4797360" cy="25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Text Box 4"/>
          <p:cNvSpPr/>
          <p:nvPr/>
        </p:nvSpPr>
        <p:spPr>
          <a:xfrm>
            <a:off x="5924160" y="1717560"/>
            <a:ext cx="2980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valence in control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terat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ther stud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ational statistic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ther count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valence in 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terat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vious stud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Key inform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mmon sen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86000" y="51814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se epi-inf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Line 6"/>
          <p:cNvSpPr/>
          <p:nvPr/>
        </p:nvSpPr>
        <p:spPr>
          <a:xfrm>
            <a:off x="2819520" y="2514600"/>
            <a:ext cx="0" cy="144792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8T14:35:09Z</dcterms:created>
  <dc:creator>lcuevas</dc:creator>
  <dc:description/>
  <dc:language>en-US</dc:language>
  <cp:lastModifiedBy>Computing Services</cp:lastModifiedBy>
  <cp:lastPrinted>2006-01-24T10:39:16Z</cp:lastPrinted>
  <dcterms:modified xsi:type="dcterms:W3CDTF">2008-04-11T07:33:45Z</dcterms:modified>
  <cp:revision>34</cp:revision>
  <dc:subject/>
  <dc:title>No Slide Title</dc:title>
</cp:coreProperties>
</file>